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B31-7E25-40D5-9333-F1D70418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408-075F-4C91-B770-C8E3F174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E39-79EA-47D6-A527-7A198054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37A-249C-4D09-8980-12B101C9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B2B2-0B4E-400D-B24C-35242AA7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39D6-F62C-4E45-AA8F-3FC7FFA6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6410-5809-4ECC-8847-B4B2E187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F9EB-27E5-46E4-8E40-9A04EEFB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3655-C1EE-4C75-80C1-D763496F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D765-3475-4504-BC50-D2580DC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D2B2-0E94-4F99-B9EE-9DC6B841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602-7246-4EFC-8CCD-FC641506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767C-1225-4C71-B6CC-8543D7C9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20A6-7775-487D-A4FD-97CEA9B2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75C1-5901-4CAE-95AB-FCF6B6A8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92EA-52C9-49FE-A2DA-F2891264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1896-FEC4-40FD-B197-5E01AF31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FCB7-E002-4902-8B21-143DA8B8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0090-7471-4040-B79A-C6E3EBB3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CAC0-7C1B-4890-A391-8646B60C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DE39-50A3-456C-BC4B-5EF3D772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6F02-F835-4FCD-B82F-6BE9F2B6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3C6-EDCD-4D73-8B76-B65F7C40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7E1F-D057-447B-94F2-83528BE3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5519-734D-4830-88B1-7580AD46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D4C2-D69D-4A29-918F-AC46AA5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2A72-CDB4-4BE4-AD32-F1C6A9F0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FDAF-8F0A-405E-A063-0F51EF6D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EAEAF-18A2-4135-8BC2-ECAF0FC0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610B-E165-46C4-9BE6-15C8A097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52CCD-349C-4AA7-94F8-E006CD63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9614-77DA-4BD6-8482-B98A0053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7D90-FB3B-43AB-8D6B-8972B3FD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BA8-39C6-4A0B-BEB5-3A12D8D0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9077-9C49-4723-A684-FAF173F5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BC4D-20C0-4175-AE2F-C198A109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EAF88-0756-494A-909B-13976BD6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EED15-A700-4F7F-8DFE-94AC9394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1354C-0CDA-4ABC-AC9A-096FAD2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41167-EB00-4133-9DEE-0E64A9D3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A080-F35A-441D-90BB-E7956DBC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84BAA-41B7-4D28-8F4B-8B061971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F01C5-717D-45AA-98E3-5E6F242B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802-2459-41CD-ADBF-AE385EB5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571-537F-4EEE-803E-8AC39C92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7DD-C58F-495C-B786-686E6EE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4EE-2321-4606-9575-7178E501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680-25B3-42EF-8652-D92567C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2EC3-9A5A-4271-9DBF-65AEF405405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9B3F-A0F7-4569-85D7-F7F3D03E9E0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DD0A-EE58-44E3-9C0F-8912FC1751C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F91C-BF0A-4038-B15A-7F5EFB8F638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55600" y="1255680"/>
            <a:ext cx="87361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m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ock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te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4"/>
          <p:cNvSpPr/>
          <p:nvPr/>
        </p:nvSpPr>
        <p:spPr>
          <a:xfrm>
            <a:off x="3962520" y="236232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523880" y="281952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276720" y="4419720"/>
            <a:ext cx="220968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-19080" y="530280"/>
            <a:ext cx="87123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h. 12.3 vocabul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2743200" y="3962520"/>
            <a:ext cx="220968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4024440" y="3124080"/>
            <a:ext cx="1371600" cy="3700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2209680" y="304812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5440" y="225360"/>
            <a:ext cx="8253360" cy="1432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7"/>
          <p:cNvSpPr/>
          <p:nvPr/>
        </p:nvSpPr>
        <p:spPr>
          <a:xfrm>
            <a:off x="990720" y="2819520"/>
            <a:ext cx="2209680" cy="3682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5964"/>
                </a:solidFill>
                <a:latin typeface="Constantia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8"/>
          <p:cNvSpPr/>
          <p:nvPr/>
        </p:nvSpPr>
        <p:spPr>
          <a:xfrm>
            <a:off x="2286000" y="182880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457200" y="1752480"/>
            <a:ext cx="1371600" cy="3700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5562720" y="1676520"/>
            <a:ext cx="167616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4191120" y="5029200"/>
            <a:ext cx="2209680" cy="3682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5964"/>
                </a:solidFill>
                <a:latin typeface="Constantia"/>
              </a:rPr>
              <a:t>Projectile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6781680" y="3886200"/>
            <a:ext cx="1447920" cy="3682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5964"/>
                </a:solidFill>
                <a:latin typeface="Constantia"/>
              </a:rPr>
              <a:t>s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1676520" y="3657600"/>
            <a:ext cx="2209680" cy="3682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5964"/>
                </a:solidFill>
                <a:latin typeface="Constantia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4114800" y="2514600"/>
            <a:ext cx="2209680" cy="3682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5964"/>
                </a:solidFill>
                <a:latin typeface="Constantia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914400" y="5181480"/>
            <a:ext cx="1600200" cy="3700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6"/>
          <p:cNvSpPr/>
          <p:nvPr/>
        </p:nvSpPr>
        <p:spPr>
          <a:xfrm>
            <a:off x="457200" y="4343400"/>
            <a:ext cx="167652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7010280" y="2209680"/>
            <a:ext cx="1676520" cy="3700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7010280" y="2971800"/>
            <a:ext cx="16002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h. 12.4 vocabul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066680" y="2971800"/>
            <a:ext cx="221004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2209680" y="205740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457200" y="213372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1981080" y="4572000"/>
            <a:ext cx="221004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4343400" y="2971800"/>
            <a:ext cx="220968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2:33:17Z</dcterms:created>
  <dc:creator>Cetta</dc:creator>
  <dc:description/>
  <dc:language>en-US</dc:language>
  <cp:lastModifiedBy>Cetta</cp:lastModifiedBy>
  <dcterms:modified xsi:type="dcterms:W3CDTF">2010-10-27T03:15:59Z</dcterms:modified>
  <cp:revision>7</cp:revision>
  <dc:subject/>
  <dc:title>Title of online vocab book Ch. 12</dc:title>
</cp:coreProperties>
</file>